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B454-F7AB-453B-AC15-639044A063F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351E9-B84E-4D9D-95BA-90BE566FA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38E50-3CF5-4C89-BCF1-73A19F72A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B045119-A0F0-48AA-96B2-AD018521264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61359BA-4A8E-481E-ABB3-8DB3EF18C5C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8A60946-B365-488F-9373-BB53E12C0F4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42A7D5-554E-4465-912B-DC4255CE8C3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7800A5D-30F5-40CC-AC27-21438E92FE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491DBF0-7510-4A2E-B47F-BC0FC36F35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08B2F67-71E3-47F1-AA5C-8775A55D552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EDB264D-A5B8-4784-8462-A83E55C9A1F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337BE6C-6131-4394-9603-E8FB91BE0C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1707C54-C2C4-410C-929F-C50170C474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4484C-2F05-4401-9EC6-B3123AF83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8D93959-DBF1-4D89-B565-F533B6FD07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AFC64AF-CA22-4D02-8D03-A8F564FB6E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172C758-5E17-4BF3-A83D-3177FC921B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92211E1-843A-40F5-B7E1-339BBF5061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FB3E156-D222-4455-8D64-FA7BBBBC6E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62CECEC-6423-4A51-AC0E-64AFFB0855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ABDF833-24A4-4289-8FCC-278E3C7C76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E3C6383-68DB-42A5-8E2E-3ECB7BDD3F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73456EA-0834-4434-BAF2-4F57F3A055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2BD4ED6-C5E1-4197-8E2C-3624D2343F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2ACE8-7EBC-4699-93A3-EC7D890DF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6E0AB1F-E0C4-4465-ACCA-7A5238BFB5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048717-0CCB-4AA9-BA73-3E9742D883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3A6A48-FF03-4E06-9A4E-859842520A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A09E1D-36B4-4030-830F-D7FA2FD5C9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332356-57E0-4C8A-8520-049897B338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AC97D6-7D19-496E-BEEC-DF33D0DB60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AC16B6-81C6-4256-8F18-824C1ED70A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98E4BE-7FAF-4FD4-B936-9929495850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A74C2D-7B1E-4A1F-BE9D-21BA5DA313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6750D0-BB4B-4D1B-B215-BD66A40CFC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CB380-1011-48DF-AA72-CC6B11E4F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FCB9B9-0DD4-4026-A018-29C98E7034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DF6AF5-0FC3-4E0F-A2DD-F982A52219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60F506-A816-4CF5-A992-1EE0146777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B1E1C49-3CF1-4100-882D-6D3CF0190A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8E56B14-0174-479E-82B4-FEC120F01B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3D1EECB-C993-43ED-B198-0EBF9E6A90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E41FA35-DCF2-4767-877F-F0DCB6548F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36C3DD8-E26C-439C-8BC7-AD94674FA5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3B865A8-840C-413B-A0C8-B2DDF58C47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35A68B9-250D-4C4A-B09C-CCBF31A1E6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5BAE7-998F-4662-B816-D3446B232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6747F7F-3DBA-451C-9E1E-5B42443D46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C2DA7D8-63FA-428E-93F6-8BD0B1CC38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07CB27F-553F-471E-8B37-8AA36CE7DA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FD58739-748E-422C-A62A-81FFCB3D54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6A1CC61-9F6C-44DC-AB7E-384AC88BA4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8F7E28D-2D27-4779-9299-2676277007E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46D61BA-0658-4477-AFF5-D21BC78B1A1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DF6DFF6-DF58-4ED2-94CB-3A058C4DD96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E51C25E-1445-41E5-9099-D8AE470AF43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BA8A70C-18CB-4D0F-A491-27C7DC80E6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F9FC3-EB97-4AFA-93C4-BF1AE1182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E103B37-4A3B-4ADB-AD90-ABE47989769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6438733-7319-411F-AE23-B46EF0914EA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7771B43-CFA8-45B9-8790-7B4DDC40626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D004DD6-53CD-4CF2-B365-AC88923E0E1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1FE4C06-A9AC-4F95-95E3-89730BE0AE4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33F0B78B-9C6F-4AF1-A9F4-33F29198A1C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2F18AC6-3529-4924-8ED5-EAE6E15CDF5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D7FCBE9-7B38-4C4F-A266-98BA1648C9D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1373AE7-DA0C-4F00-8505-F651A6B4C54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15E82EF-9E33-4F5E-AC65-A836279ADF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83453-C85A-40C6-9080-ED5C1615B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CDF284F-1796-45DB-A1FC-230DB8E370F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26576F8-761C-48A4-83C3-944AF96174C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666F870-62AD-42DE-BDD9-199FB17F1C9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EF478B3-7CAB-4740-B7C0-1D7026A4DD4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EA67EBA-CF89-4A6E-AC9D-635164517F2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46F074C-2A27-49D8-ACE2-F7F3FC18DC8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069522C-EEEB-44CA-A51E-A4345EFD3C1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04B8FEB-9D62-44A0-BC15-FEAAACBF1B0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8D6064D-28FE-46B0-B28C-56BA8BC321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BD5DF-A79A-4599-B516-D35361177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AFDF4-2E9F-4F06-B142-4CC8A28EA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5A311-A738-4CF0-8EAB-3777ACAEF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3997-DDA0-44BB-B888-480B306FE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523A7-CAFE-4BF6-B9A0-FC2448C69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2A594-B9AF-4A24-89A7-E2FE811B1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62085-8643-44F2-BA7F-C05AF3C77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FBA1C-FF0C-4E3A-91FE-E412FB476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3DED0-F701-4DFA-B65A-06EA25ADF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E32862-1AFA-40CE-A9BD-815245EC83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62B957-D134-461E-AEAB-523ED5F873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53062-D2D3-4A5C-8E66-DE10AF28F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FA11F-9125-4DF7-929D-B376688DC2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996D7-A155-459B-B9C9-3BE1E9B97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8EF58-21D4-4A6E-9D81-89322644B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EF4459-B291-4F9E-BEA6-67EDBC5982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04445-9B0B-4949-BD0E-43C35F7E4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23A33-CFCE-4EEE-ACC4-9FCA00E71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2ACBD-7916-4C40-AD12-64CE62BBF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2B1D52-9313-4F8D-86AB-272C5E837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71EE1F-C5F9-4E06-8F27-2DB4E3DBE6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95F828-593C-4702-841E-C567D9B6E0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EA3E537-67A9-4354-96E4-5485930394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4B522CE-B4E9-4DB4-801E-369E434D5D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4242E40-6032-40C9-A634-8DC49DA547F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32980-F33D-4B61-9D31-263DBB614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6FAAE3B-D914-42D8-83E8-888EDF703C5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2E386BA-84B8-4F4F-98D9-931EC7833EC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32EBA56-F646-4189-8A55-39A26C6400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14670E0-5274-4E14-B4AC-C616DE93D75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F1C85DC-F328-458A-BBE8-A87D4100D98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2B12062-6896-4FCA-92DE-7EBD490616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41E120F-D311-4CD9-BB6E-577685FB21E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7036A0D-B0CE-4031-A580-54ADDDEE1C8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2EFD8C8-7893-4591-AB23-2171C3F57B2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8DE14F-CE04-423A-97CB-5750EEC807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082C7-E280-4426-AA98-A4EA63ABE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A7AD35-7B4B-4F3C-B4B2-3DE3107CC3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EB9474-6649-4D9C-99DA-18D4C001BC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90F340-B033-4AED-A2EE-CA1F5CF4E2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8BB49E-3A41-49C2-B7E9-79DF8B1141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4E0A83-084B-4708-96B2-F41F08404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CBAD7B-30B5-4A68-B70A-9B735F450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1FAD5-CC35-4919-B0D1-1E945B5CF9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214C6-4A9A-4F32-B00C-083A8F04D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B87BD7-E644-46D3-8A54-1C20F7F06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49F56A-F92A-4504-A6A3-8045600EA2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9B1FC-6B05-447F-B11D-3A7363FB0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6177F9-CAF8-4C5E-8C5F-7651011B6D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515FF0-3BCF-419D-B985-BD417181B3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984DD3-737F-4457-A679-A3DF8423C4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025C32-7643-4565-B41F-01208281CC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40D579-8EEB-40FF-B185-5AC8961020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51F8B7-BA95-4A9A-80B1-B8AFDD42BC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B41525-6A6F-4BB0-95F3-C973703F91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F71E2-3321-4519-9756-7E0435B258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DDB7E-E0B1-4AEB-84D8-61D81AB97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06EB67-C0EC-4D1C-BD98-2B2FE32D24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B530C-CF16-4DEA-B9AF-3FBF2A4E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C3D1D4-EFAF-46EF-948F-EC3CC279F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D20B3C-496E-4A04-B2FE-EC0FFBB99A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2FD78E-D7DE-4645-AA69-A0E2EFCFA5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9E9B83-C7DD-4D3C-98A2-6601A9F534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2AE095-DE91-4CE8-BDA6-B88EC2F25A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390F4E-EEC8-44BC-9A7E-367BD82759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E7BBF-D383-4A66-9B32-18509533BA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BB599E-751B-446E-B6AC-ABA9C3B10E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B6CF1A-5604-49B7-9DF0-E4E6057068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2215E-6C1B-4077-BACB-DA32BCC9C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A16AD-D209-4C7D-8CC6-624E6CD1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6B38D-7BAF-4AAD-9465-8D49118C0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13C4D9-58F8-468F-97A9-CCB889258A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DF9373-AD77-4781-B67D-E8A961F89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566D41-C80C-4B58-B731-4CC26B8332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F3643E-F6B3-4597-B1B5-E67D4365D4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0DEF21-FF2B-46BE-92A4-4CB34FAA7D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5C4D2C-A58C-4C48-98FE-FFCB6F71B9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7820B5-1306-43D4-9950-21B3C409F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0D2BFA-F6CD-4186-8B26-E2E0BBB8FF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A51F54-4F3B-4C76-AD83-7AF76F8748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7699-0A7F-4262-AD47-E8BA3AAF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CB5CF0-9160-4961-B089-1E9968F2E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8829B-F4E3-4C4C-8277-50FB638217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38EB06-7021-423B-B1CC-F1A8E48241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69AE73-34CE-465C-986B-156C131F5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7DD47-E8B5-4044-8095-243BD03DFB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529AE9-B52C-4B2D-849C-F84EE21A8D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58BAC1-57D8-4853-AA76-835A2526CE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C8D8195-0E00-408C-88B1-3699C86D208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FACF036-F0C2-4836-8F63-C38E41BA220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647D2DC-CFD7-4E78-9EFB-A39A037D4B9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B784-BE79-46C0-9E92-9406FD0A683F}"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E1B3-E2FF-4879-9EE6-22FE85B830D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09AD-10C6-48DD-A4AE-2D276CC7AE25}"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C4A8-5BFD-4085-BA4D-10D86BE9707A}"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8441-1B55-4966-B304-DE75B48E54A1}"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DF56-18B8-44BF-8BF7-952833CC03D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7D48-0140-47F1-9215-789D97727DF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5E89-19CE-4D84-BFB5-90C6CD7977E1}"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6F48B93F-0D14-42AB-80FF-F0622C0E70D8}"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0F5444E4-7B1A-4546-9A2D-5188D7AF7373}"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8D28-1ECB-4371-89D0-04132BEE2145}"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634E-9A82-40D5-BC6B-C3ADAE6CBF5D}"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8C4F-54AB-40CD-BB42-B94BC3A34E56}"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87B5-54AD-47E8-A77B-5FCB9F2EF85B}"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B459-2D12-4936-ABB7-58DAF433BEAB}"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360A-FA65-40D6-A7CD-EC23FCC552B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B73D-A2BD-4D04-AAA6-C8722449B1BC}"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5291-B572-4A97-BEF2-2C37182E5CA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2E0E-682C-42A8-9370-A8462056F9DB}"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96D1-0009-420B-B1E6-BBCB0DBA8ACD}"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1F51-7103-4757-AB37-1290C1C227B2}"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43F5-E60D-450F-B070-964CBFD51D0A}"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3C84-29FB-4C38-BEFF-4C8B252F711B}"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388C-E74E-47E3-A3F2-CBFFAC98DADA}"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7770-5BE3-48A6-9E0F-348EE2C431A7}"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D47E-E30D-44BD-8F88-6BF3E49535D4}" type="datetime">
              <a:rPr b="0" lang="ru-RU" sz="1400" spc="-1" strike="noStrike">
                <a:solidFill>
                  <a:srgbClr val="ffffff"/>
                </a:solidFill>
                <a:latin typeface="Georgia"/>
              </a:rPr>
              <a:t>29.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